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6929-FDD4-41F5-9FD4-C744C13B1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A1D7-4261-4A35-A16B-EA340BFE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48E5-C8F4-4BE3-B568-E70E91C1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2823-C962-437D-85E5-7DA05F8B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4A52-CAF0-457E-9FD5-3EEE1EB54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272E-8D3A-4EA8-A6FE-D451E476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0635-2E21-491E-A105-C5690064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7DAA-99ED-4F19-A99C-091BC7EF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3160-E2D5-46D5-9187-2E49F79F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46C8-5335-4AC9-AA0B-17D9A6BB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06F6-9734-45E6-9FE1-30AD05AF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5F0F-17C5-4963-BD06-0654D7E8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1C4A-DDFD-4A3D-AB78-503010CB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2D77-D4A3-4C1F-AC65-469E1FC0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E9E0-1D1E-483B-B711-374FE6CE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B7AB-F67C-4A67-8EB9-A44534028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45D4-E670-4D1C-98B0-9EA269EB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52C5-B6C7-4EFF-B971-64CCAAC6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92F2-F9A0-40AE-AD34-36B0CE40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BF6E-3E7F-4BD3-AB70-584F7F35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3E37-5CD5-4F52-B3DF-34E9D90E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5B4E-EB59-424F-B4BF-57228685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FABE-9908-40CE-805F-5C901BE6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363B-96CD-42C9-AA70-7B4F75C6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ADB4-152A-44E8-9B75-9B85FD8F8F9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A080-6BDA-415C-A49B-EC046FDCA34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Impact"/>
              </a:rPr>
              <a:t>The poisoning of  </a:t>
            </a: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Alexander Litvinenko.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516720" y="2646360"/>
            <a:ext cx="1687320" cy="3375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95280" y="2708280"/>
            <a:ext cx="3313080" cy="2311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924360" y="3284640"/>
            <a:ext cx="1905120" cy="1647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ad the timeline of the poisoning.  Can you see why the doctors had trouble determining what was poisoning Alexander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do you already know about alpha radiat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stops i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uses are there for i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4581360"/>
            <a:ext cx="7772400" cy="18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99680" indent="-49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is an isotop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does it mean by half lif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y would the Polonium have killed Alexander when the killer have been safe carrying i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y didn’t tests detect the radiation when he was admitted to hospital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108000" y="836640"/>
            <a:ext cx="2235240" cy="2744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340000" y="981000"/>
            <a:ext cx="6804000" cy="3024360"/>
          </a:xfrm>
          <a:prstGeom prst="wedgeRectCallout">
            <a:avLst>
              <a:gd name="adj1" fmla="val -61597"/>
              <a:gd name="adj2" fmla="val -20185"/>
            </a:avLst>
          </a:prstGeom>
          <a:solidFill>
            <a:srgbClr val="ffff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onium has 25 known isotopes, all of which are radioactive. They emit alpha radiation and have atomic masses that range from 194  to 21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 is the most widely available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 (half-life 103 years)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 (half-life 2.9 years)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Why Polonium 210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02920" y="907920"/>
            <a:ext cx="75214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 you think the killers were smart using Polonium to kill Alexande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ink of reasons for or against, watch here for clues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1332000" cy="1152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Alexander Litvinenko, poisoned, KGB, Scotland Yard, Russian spy,"/>
          <p:cNvPicPr/>
          <p:nvPr/>
        </p:nvPicPr>
        <p:blipFill>
          <a:blip r:embed="rId3"/>
          <a:stretch/>
        </p:blipFill>
        <p:spPr>
          <a:xfrm>
            <a:off x="0" y="4508640"/>
            <a:ext cx="3132000" cy="2349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4360" y="285264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onium has a half life of only 138 d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285264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he would have died quickly, no one would have discover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43280" y="400536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onium kills the white bloo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84720" y="400536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onium is rare and usually only available to the very 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95640" y="314172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drugs could have killed him easi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321300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lpha radiation wouldn’t have been detected in his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91280" y="44370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onium occurs naturally in low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4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8500"/>
                            </p:stCondLst>
                            <p:childTnLst>
                              <p:par>
                                <p:cTn id="47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4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4500"/>
                            </p:stCondLst>
                            <p:childTnLst>
                              <p:par>
                                <p:cTn id="59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500"/>
                            </p:stCondLst>
                            <p:childTnLst>
                              <p:par>
                                <p:cTn id="71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60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6500"/>
                            </p:stCondLst>
                            <p:childTnLst>
                              <p:par>
                                <p:cTn id="83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Read the timeline of the poisoning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02920" y="907920"/>
            <a:ext cx="75214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 you think the killers were smart using Polonium to kill Alexande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ink of reasons for or against, watch here for clues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1332000" cy="1152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Alexander Litvinenko, poisoned, KGB, Scotland Yard, Russian spy,"/>
          <p:cNvPicPr/>
          <p:nvPr/>
        </p:nvPicPr>
        <p:blipFill>
          <a:blip r:embed="rId3"/>
          <a:stretch/>
        </p:blipFill>
        <p:spPr>
          <a:xfrm>
            <a:off x="0" y="4508640"/>
            <a:ext cx="3132000" cy="2349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4360" y="285264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onium has a half life of only 138 d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285264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he would have died quickly, no one would have discover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43280" y="400536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onium kills the white bloo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84720" y="400536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onium is rare and usually only available to the very 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314172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drugs could have killed him easi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00720" y="321300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lpha radiation wouldn’t have been detected in his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91280" y="44370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onium occurs naturally in low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4000"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2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134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40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6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500"/>
                            </p:stCondLst>
                            <p:childTnLst>
                              <p:par>
                                <p:cTn id="158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60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6500"/>
                            </p:stCondLst>
                            <p:childTnLst>
                              <p:par>
                                <p:cTn id="170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Read the timeline of the poisoning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02920" y="907920"/>
            <a:ext cx="75214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 you think the killers were smart using Polonium to kill Alexande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ink of reasons for or against, watch here for clues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1332000" cy="1152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Alexander Litvinenko, poisoned, KGB, Scotland Yard, Russian spy,"/>
          <p:cNvPicPr/>
          <p:nvPr/>
        </p:nvPicPr>
        <p:blipFill>
          <a:blip r:embed="rId3"/>
          <a:stretch/>
        </p:blipFill>
        <p:spPr>
          <a:xfrm>
            <a:off x="0" y="4508640"/>
            <a:ext cx="3132000" cy="2349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4360" y="285264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onium has a half life of only 138 d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285264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he would have died quickly, no one would have discover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400536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onium kills the white bloo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84720" y="400536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onium is rare and usually only available to the very 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95640" y="314172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drugs could have killed him easi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00720" y="321300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lpha radiation wouldn’t have been detected in his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91280" y="44370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onium occurs naturally in low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4000"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500"/>
                            </p:stCondLst>
                            <p:childTnLst>
                              <p:par>
                                <p:cTn id="197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9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8500"/>
                            </p:stCondLst>
                            <p:childTnLst>
                              <p:par>
                                <p:cTn id="221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400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4500"/>
                            </p:stCondLst>
                            <p:childTnLst>
                              <p:par>
                                <p:cTn id="233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500"/>
                            </p:stCondLst>
                            <p:childTnLst>
                              <p:par>
                                <p:cTn id="245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60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6500"/>
                            </p:stCondLst>
                            <p:childTnLst>
                              <p:par>
                                <p:cTn id="257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Read the timeline of the poisoning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02920" y="907920"/>
            <a:ext cx="75214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 you think the killers were smart using Polonium to kill Alexande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ink of reasons for or against, watch here for clues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1332000" cy="1152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Alexander Litvinenko, poisoned, KGB, Scotland Yard, Russian spy,"/>
          <p:cNvPicPr/>
          <p:nvPr/>
        </p:nvPicPr>
        <p:blipFill>
          <a:blip r:embed="rId3"/>
          <a:stretch/>
        </p:blipFill>
        <p:spPr>
          <a:xfrm>
            <a:off x="0" y="4508640"/>
            <a:ext cx="3132000" cy="2349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84360" y="285264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onium has a half life of only 138 d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285264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he would have died quickly, no one would have discover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43280" y="400536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onium kills the white bloo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84720" y="400536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onium is rare and usually only available to the very 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5640" y="314172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drugs could have killed him easi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00720" y="321300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lpha radiation wouldn’t have been detected in his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91280" y="44370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onium occurs naturally in low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6500"/>
                            </p:stCondLst>
                            <p:childTnLst>
                              <p:par>
                                <p:cTn id="284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96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8500"/>
                            </p:stCondLst>
                            <p:childTnLst>
                              <p:par>
                                <p:cTn id="308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9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40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4500"/>
                            </p:stCondLst>
                            <p:childTnLst>
                              <p:par>
                                <p:cTn id="320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1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500"/>
                            </p:stCondLst>
                            <p:childTnLst>
                              <p:par>
                                <p:cTn id="332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6000"/>
                            </p:stCondLst>
                            <p:childTnLst>
                              <p:par>
                                <p:cTn id="3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6500"/>
                            </p:stCondLst>
                            <p:childTnLst>
                              <p:par>
                                <p:cTn id="344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20:41:12Z</dcterms:created>
  <dc:creator>Ian Hemming</dc:creator>
  <dc:description/>
  <dc:language>en-US</dc:language>
  <cp:lastModifiedBy>sthemmingi</cp:lastModifiedBy>
  <dcterms:modified xsi:type="dcterms:W3CDTF">2007-03-13T11:43:59Z</dcterms:modified>
  <cp:revision>5</cp:revision>
  <dc:subject/>
  <dc:title>The poisoning of  Alexander Litvinenko.</dc:title>
</cp:coreProperties>
</file>